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4.wmf" ContentType="image/x-wmf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5B1-2EA9-45AB-B512-CDB82B1D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707-09FD-4BFA-BF3D-9A94F05D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CA9-E27E-480A-9760-65240A8C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2F1D-B5E7-4BF5-8389-5E5E5CBF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9148-EFF3-47A0-B5F3-D238BE2F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8DB6-E527-493E-949E-EA9D782A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7194-1B67-4BFC-8E96-7799B3D4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D7DA-B50A-4B01-A052-F4029A6B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2EDE-F8A7-4B8D-9F94-E44A81B4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3103-7B64-438D-BBAF-E1285AD01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0A24-7E85-4B04-8FCD-5D681C99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13A-F8B9-4750-A033-66F0C27D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B867-C97C-48EF-81A9-7EA01565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74AB-01FE-4B27-A2B7-F8F57086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B000-69D1-4000-98AC-6F87A7CB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5925-047A-4442-9F2E-E2D9A818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B729-2512-47BD-BA35-7627CF2B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173-B30C-4C0D-BF49-A53843CF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D34F-5EB3-4CFC-9B00-EE6855E9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B17-3D5C-4D80-8621-81730FC3A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5FE-563D-42D9-B47C-071233DF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1ED-57D4-4601-BFFD-6DBC8A2C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32C-F157-436C-AD27-460F22A1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CCC6-E389-4393-BF72-48D3B8A0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8ABA-1573-4C2E-BE98-2878BDC368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D351-4FEC-4B50-AFF2-C27EC6E0692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4.xml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2.png"/><Relationship Id="rId9" Type="http://schemas.openxmlformats.org/officeDocument/2006/relationships/slide" Target="slide33.xml"/><Relationship Id="rId10" Type="http://schemas.openxmlformats.org/officeDocument/2006/relationships/slide" Target="slide17.xml"/><Relationship Id="rId1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4.xm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slide" Target="slide17.xml"/><Relationship Id="rId7" Type="http://schemas.openxmlformats.org/officeDocument/2006/relationships/image" Target="../media/image4.wmf"/><Relationship Id="rId8" Type="http://schemas.openxmlformats.org/officeDocument/2006/relationships/slide" Target="slide33.xml"/><Relationship Id="rId9" Type="http://schemas.openxmlformats.org/officeDocument/2006/relationships/image" Target="../media/image2.png"/><Relationship Id="rId10" Type="http://schemas.openxmlformats.org/officeDocument/2006/relationships/slide" Target="slide33.xml"/><Relationship Id="rId1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5.xm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6.xm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7.xml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8.xm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9.xm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0.xm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1.xml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2.xm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3.xm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4.xm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2.png"/><Relationship Id="rId7" Type="http://schemas.openxmlformats.org/officeDocument/2006/relationships/slide" Target="slide17.xml"/><Relationship Id="rId8" Type="http://schemas.openxmlformats.org/officeDocument/2006/relationships/image" Target="../media/image4.wmf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5.xml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" Target="slide16.xm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1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2.png"/><Relationship Id="rId8" Type="http://schemas.openxmlformats.org/officeDocument/2006/relationships/slide" Target="slide33.xml"/><Relationship Id="rId9" Type="http://schemas.openxmlformats.org/officeDocument/2006/relationships/slide" Target="slide17.xml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43600" y="685800"/>
            <a:ext cx="2743200" cy="5486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1523880" y="609480"/>
            <a:ext cx="396252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Who Wants To B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A Millionaire??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37920" y="761760"/>
            <a:ext cx="495324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9 for $16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2209680"/>
            <a:ext cx="80010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Is Pip happy that Herbert calls him Hand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We don’t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He doesn’t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He is quite thank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26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26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457200" y="4724280"/>
            <a:ext cx="3962520" cy="1219320"/>
            <a:chOff x="457200" y="4724280"/>
            <a:chExt cx="3962520" cy="1219320"/>
          </a:xfrm>
        </p:grpSpPr>
        <p:sp>
          <p:nvSpPr>
            <p:cNvPr id="27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>
            <a:hlinkClick r:id="rId8" action="ppaction://hlinksldjump"/>
          </p:cNvPr>
          <p:cNvSpPr/>
          <p:nvPr/>
        </p:nvSpPr>
        <p:spPr>
          <a:xfrm>
            <a:off x="4038480" y="34290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9" action="ppaction://hlinksldjump"/>
          </p:cNvPr>
          <p:cNvSpPr/>
          <p:nvPr/>
        </p:nvSpPr>
        <p:spPr>
          <a:xfrm>
            <a:off x="6553080" y="3352680"/>
            <a:ext cx="1524240" cy="838440"/>
          </a:xfrm>
          <a:custGeom>
            <a:avLst/>
            <a:gdLst>
              <a:gd name="textAreaLeft" fmla="*/ 54360 w 1524240"/>
              <a:gd name="textAreaRight" fmla="*/ 1469880 w 15242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9260" h="21600">
                <a:moveTo>
                  <a:pt x="0" y="0"/>
                </a:moveTo>
                <a:lnTo>
                  <a:pt x="39260" y="0"/>
                </a:lnTo>
                <a:lnTo>
                  <a:pt x="39260" y="21600"/>
                </a:lnTo>
                <a:lnTo>
                  <a:pt x="0" y="21600"/>
                </a:lnTo>
                <a:close/>
              </a:path>
              <a:path fill="lightenLess" w="39260" h="21600">
                <a:moveTo>
                  <a:pt x="0" y="0"/>
                </a:moveTo>
                <a:lnTo>
                  <a:pt x="39260" y="0"/>
                </a:lnTo>
                <a:lnTo>
                  <a:pt x="37860" y="1400"/>
                </a:lnTo>
                <a:lnTo>
                  <a:pt x="1400" y="1400"/>
                </a:lnTo>
                <a:close/>
              </a:path>
              <a:path fill="darken" w="39260" h="21600">
                <a:moveTo>
                  <a:pt x="39260" y="0"/>
                </a:moveTo>
                <a:lnTo>
                  <a:pt x="39260" y="21600"/>
                </a:lnTo>
                <a:lnTo>
                  <a:pt x="37860" y="20200"/>
                </a:lnTo>
                <a:lnTo>
                  <a:pt x="37860" y="1400"/>
                </a:lnTo>
                <a:close/>
              </a:path>
              <a:path fill="darkenLess" w="39260" h="21600">
                <a:moveTo>
                  <a:pt x="39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60" y="20200"/>
                </a:lnTo>
                <a:close/>
              </a:path>
              <a:path fill="lighten" w="39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115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5105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0 for $32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2209680"/>
            <a:ext cx="80010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at is Pip afraid 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He does not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48320" y="5486400"/>
            <a:ext cx="41907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A childhood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He got h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He was threate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28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8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28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29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>
            <a:hlinkClick r:id="rId8" action="ppaction://hlinksldjump"/>
          </p:cNvPr>
          <p:cNvSpPr/>
          <p:nvPr/>
        </p:nvSpPr>
        <p:spPr>
          <a:xfrm>
            <a:off x="388620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rId9" action="ppaction://hlinksldjump"/>
          </p:cNvPr>
          <p:cNvSpPr/>
          <p:nvPr/>
        </p:nvSpPr>
        <p:spPr>
          <a:xfrm>
            <a:off x="6553080" y="3429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115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14240" y="761760"/>
            <a:ext cx="518148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1 for $64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209680"/>
            <a:ext cx="80010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ere does Pip go after getting of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Miss Havisham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The mar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Blue B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30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0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30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1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312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>
            <a:hlinkClick r:id="rId8" action="ppaction://hlinksldjump"/>
          </p:cNvPr>
          <p:cNvSpPr/>
          <p:nvPr/>
        </p:nvSpPr>
        <p:spPr>
          <a:xfrm>
            <a:off x="388620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9" action="ppaction://hlinksldjump"/>
          </p:cNvPr>
          <p:cNvSpPr/>
          <p:nvPr/>
        </p:nvSpPr>
        <p:spPr>
          <a:xfrm>
            <a:off x="6629400" y="33526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115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09320" y="685440"/>
            <a:ext cx="5410440" cy="76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2 for $125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2209680"/>
            <a:ext cx="807732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How is the newspaper describ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Di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Dirty 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Old di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32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2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2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32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3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332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>
            <a:hlinkClick r:id="rId8" action="ppaction://hlinksldjump"/>
          </p:cNvPr>
          <p:cNvSpPr/>
          <p:nvPr/>
        </p:nvSpPr>
        <p:spPr>
          <a:xfrm>
            <a:off x="3809880" y="33526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9" action="ppaction://hlinksldjump"/>
          </p:cNvPr>
          <p:cNvSpPr/>
          <p:nvPr/>
        </p:nvSpPr>
        <p:spPr>
          <a:xfrm>
            <a:off x="655308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4115" fill="hold"/>
                                        <p:tgtEl>
                                          <p:spTgt spid="3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548640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3 for $250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05120"/>
            <a:ext cx="8001000" cy="990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o takes credit for the rise of Pip as gentlem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Miss Havis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Bid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Pumblech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34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4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34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51" name=""/>
          <p:cNvGrpSpPr/>
          <p:nvPr/>
        </p:nvGrpSpPr>
        <p:grpSpPr>
          <a:xfrm>
            <a:off x="457200" y="4724280"/>
            <a:ext cx="3962520" cy="1219320"/>
            <a:chOff x="457200" y="4724280"/>
            <a:chExt cx="3962520" cy="1219320"/>
          </a:xfrm>
        </p:grpSpPr>
        <p:sp>
          <p:nvSpPr>
            <p:cNvPr id="35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">
            <a:hlinkClick r:id="rId8" action="ppaction://hlinksldjump"/>
          </p:cNvPr>
          <p:cNvSpPr/>
          <p:nvPr/>
        </p:nvSpPr>
        <p:spPr>
          <a:xfrm>
            <a:off x="388620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9" action="ppaction://hlinksldjump"/>
          </p:cNvPr>
          <p:cNvSpPr/>
          <p:nvPr/>
        </p:nvSpPr>
        <p:spPr>
          <a:xfrm>
            <a:off x="6629400" y="33526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4115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4560" y="685800"/>
            <a:ext cx="5411520" cy="75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4 for $500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1828800"/>
            <a:ext cx="800100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at is the convict describing when he says, “mudbank, mist, swamp, and work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Blue B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He doesn’t say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Lond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Pip’s home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36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6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36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71" name=""/>
          <p:cNvGrpSpPr/>
          <p:nvPr/>
        </p:nvGrpSpPr>
        <p:grpSpPr>
          <a:xfrm>
            <a:off x="457200" y="4724280"/>
            <a:ext cx="8153280" cy="457200"/>
            <a:chOff x="457200" y="4724280"/>
            <a:chExt cx="8153280" cy="457200"/>
          </a:xfrm>
        </p:grpSpPr>
        <p:sp>
          <p:nvSpPr>
            <p:cNvPr id="372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>
            <a:hlinkClick r:id="rId8" action="ppaction://hlinksldjump"/>
          </p:cNvPr>
          <p:cNvSpPr/>
          <p:nvPr/>
        </p:nvSpPr>
        <p:spPr>
          <a:xfrm>
            <a:off x="3962520" y="34290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9" action="ppaction://hlinksldjump"/>
          </p:cNvPr>
          <p:cNvSpPr/>
          <p:nvPr/>
        </p:nvSpPr>
        <p:spPr>
          <a:xfrm>
            <a:off x="655308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4115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0" y="761760"/>
            <a:ext cx="541008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5 for $1 Mill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1981080"/>
            <a:ext cx="80010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O YOU WANT $1 MILLIO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YES YES YES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I don’t think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No tha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4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I’ll p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38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8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38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7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0" name="" descr=""/>
          <p:cNvPicPr/>
          <p:nvPr/>
        </p:nvPicPr>
        <p:blipFill>
          <a:blip r:embed="rId8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39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>
            <a:hlinkClick r:id="rId9" action="ppaction://hlinksldjump"/>
          </p:cNvPr>
          <p:cNvSpPr/>
          <p:nvPr/>
        </p:nvSpPr>
        <p:spPr>
          <a:xfrm>
            <a:off x="3962520" y="3429000"/>
            <a:ext cx="1218960" cy="76212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42" h="21600">
                <a:moveTo>
                  <a:pt x="0" y="0"/>
                </a:moveTo>
                <a:lnTo>
                  <a:pt x="34542" y="0"/>
                </a:lnTo>
                <a:lnTo>
                  <a:pt x="34542" y="21600"/>
                </a:lnTo>
                <a:lnTo>
                  <a:pt x="0" y="21600"/>
                </a:lnTo>
                <a:close/>
              </a:path>
              <a:path fill="lightenLess" w="34542" h="21600">
                <a:moveTo>
                  <a:pt x="0" y="0"/>
                </a:moveTo>
                <a:lnTo>
                  <a:pt x="34542" y="0"/>
                </a:lnTo>
                <a:lnTo>
                  <a:pt x="33142" y="1400"/>
                </a:lnTo>
                <a:lnTo>
                  <a:pt x="1400" y="1400"/>
                </a:lnTo>
                <a:close/>
              </a:path>
              <a:path fill="darken" w="34542" h="21600">
                <a:moveTo>
                  <a:pt x="34542" y="0"/>
                </a:moveTo>
                <a:lnTo>
                  <a:pt x="34542" y="21600"/>
                </a:lnTo>
                <a:lnTo>
                  <a:pt x="33142" y="20200"/>
                </a:lnTo>
                <a:lnTo>
                  <a:pt x="33142" y="1400"/>
                </a:lnTo>
                <a:close/>
              </a:path>
              <a:path fill="darkenLess" w="34542" h="21600">
                <a:moveTo>
                  <a:pt x="3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2" y="20200"/>
                </a:lnTo>
                <a:close/>
              </a:path>
              <a:path fill="lighten" w="3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rId10" action="ppaction://hlinksldjump"/>
          </p:cNvPr>
          <p:cNvSpPr/>
          <p:nvPr/>
        </p:nvSpPr>
        <p:spPr>
          <a:xfrm>
            <a:off x="6629400" y="3429000"/>
            <a:ext cx="1219320" cy="685800"/>
          </a:xfrm>
          <a:custGeom>
            <a:avLst/>
            <a:gdLst>
              <a:gd name="textAreaLeft" fmla="*/ 44280 w 1219320"/>
              <a:gd name="textAreaRight" fmla="*/ 1175040 w 12193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95" h="21600">
                <a:moveTo>
                  <a:pt x="0" y="0"/>
                </a:moveTo>
                <a:lnTo>
                  <a:pt x="38395" y="0"/>
                </a:lnTo>
                <a:lnTo>
                  <a:pt x="38395" y="21600"/>
                </a:lnTo>
                <a:lnTo>
                  <a:pt x="0" y="21600"/>
                </a:lnTo>
                <a:close/>
              </a:path>
              <a:path fill="lightenLess" w="38395" h="21600">
                <a:moveTo>
                  <a:pt x="0" y="0"/>
                </a:moveTo>
                <a:lnTo>
                  <a:pt x="38395" y="0"/>
                </a:lnTo>
                <a:lnTo>
                  <a:pt x="36995" y="1400"/>
                </a:lnTo>
                <a:lnTo>
                  <a:pt x="1400" y="1400"/>
                </a:lnTo>
                <a:close/>
              </a:path>
              <a:path fill="darken" w="38395" h="21600">
                <a:moveTo>
                  <a:pt x="38395" y="0"/>
                </a:moveTo>
                <a:lnTo>
                  <a:pt x="38395" y="21600"/>
                </a:lnTo>
                <a:lnTo>
                  <a:pt x="36995" y="20200"/>
                </a:lnTo>
                <a:lnTo>
                  <a:pt x="36995" y="1400"/>
                </a:lnTo>
                <a:close/>
              </a:path>
              <a:path fill="darkenLess" w="38395" h="21600">
                <a:moveTo>
                  <a:pt x="38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95" y="20200"/>
                </a:lnTo>
                <a:close/>
              </a:path>
              <a:path fill="lighten" w="38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4115" fill="hold"/>
                                        <p:tgtEl>
                                          <p:spTgt spid="3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Ask the Audienc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"/>
          <p:cNvGraphicFramePr/>
          <p:nvPr/>
        </p:nvGraphicFramePr>
        <p:xfrm>
          <a:off x="1523880" y="1676520"/>
          <a:ext cx="6248520" cy="300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76520"/>
                    <a:ext cx="6248520" cy="30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7467480" y="61722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>
            <a:hlinkClick r:id="" action="ppaction://hlinkshowjump?jump=previousslide"/>
          </p:cNvPr>
          <p:cNvSpPr/>
          <p:nvPr/>
        </p:nvSpPr>
        <p:spPr>
          <a:xfrm>
            <a:off x="7467480" y="60199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7493"/>
                </a:moveTo>
                <a:lnTo>
                  <a:pt x="18093" y="7493"/>
                </a:lnTo>
                <a:lnTo>
                  <a:pt x="18093" y="12828"/>
                </a:lnTo>
                <a:cubicBezTo>
                  <a:pt x="18093" y="13751"/>
                  <a:pt x="18893" y="14482"/>
                  <a:pt x="19929" y="14482"/>
                </a:cubicBezTo>
                <a:lnTo>
                  <a:pt x="21592" y="14482"/>
                </a:lnTo>
                <a:cubicBezTo>
                  <a:pt x="22627" y="14482"/>
                  <a:pt x="23428" y="13751"/>
                  <a:pt x="23428" y="12828"/>
                </a:cubicBezTo>
                <a:lnTo>
                  <a:pt x="23428" y="7493"/>
                </a:lnTo>
                <a:lnTo>
                  <a:pt x="21592" y="7493"/>
                </a:lnTo>
                <a:lnTo>
                  <a:pt x="25099" y="3985"/>
                </a:lnTo>
                <a:lnTo>
                  <a:pt x="28772" y="7493"/>
                </a:lnTo>
                <a:lnTo>
                  <a:pt x="26936" y="7493"/>
                </a:lnTo>
                <a:lnTo>
                  <a:pt x="26936" y="12828"/>
                </a:lnTo>
                <a:cubicBezTo>
                  <a:pt x="26936" y="15596"/>
                  <a:pt x="24359" y="18155"/>
                  <a:pt x="21592" y="18155"/>
                </a:cubicBezTo>
                <a:lnTo>
                  <a:pt x="19929" y="18155"/>
                </a:lnTo>
                <a:cubicBezTo>
                  <a:pt x="17161" y="18155"/>
                  <a:pt x="14585" y="15596"/>
                  <a:pt x="14585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895480" y="619200"/>
            <a:ext cx="39052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733920" y="155268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5"/>
          <a:stretch/>
        </p:blipFill>
        <p:spPr>
          <a:xfrm>
            <a:off x="3886200" y="2209680"/>
            <a:ext cx="1995480" cy="37339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rId6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029040" y="69516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762360" y="1628640"/>
            <a:ext cx="22575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3809880" y="2209680"/>
            <a:ext cx="2167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26708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1 for $1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286000"/>
            <a:ext cx="815364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o does not wish for Joe to come to Lond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P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Her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Drumm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100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3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6" action="ppaction://hlinksldjump"/>
          </p:cNvPr>
          <p:cNvSpPr/>
          <p:nvPr/>
        </p:nvSpPr>
        <p:spPr>
          <a:xfrm>
            <a:off x="6477120" y="3352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486400"/>
            <a:ext cx="8153280" cy="457200"/>
            <a:chOff x="457200" y="5486400"/>
            <a:chExt cx="8153280" cy="457200"/>
          </a:xfrm>
        </p:grpSpPr>
        <p:sp>
          <p:nvSpPr>
            <p:cNvPr id="106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grpSp>
          <p:nvGrpSpPr>
            <p:cNvPr id="109" name=""/>
            <p:cNvGrpSpPr/>
            <p:nvPr/>
          </p:nvGrpSpPr>
          <p:grpSpPr>
            <a:xfrm>
              <a:off x="3733920" y="3276720"/>
              <a:ext cx="1676160" cy="914400"/>
              <a:chOff x="3733920" y="3276720"/>
              <a:chExt cx="1676160" cy="914400"/>
            </a:xfrm>
          </p:grpSpPr>
          <p:sp>
            <p:nvSpPr>
              <p:cNvPr id="110" name=""/>
              <p:cNvSpPr/>
              <p:nvPr/>
            </p:nvSpPr>
            <p:spPr>
              <a:xfrm>
                <a:off x="3733920" y="3276720"/>
                <a:ext cx="1676160" cy="91440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14800" y="3352680"/>
                <a:ext cx="939960" cy="67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">
              <a:hlinkClick r:id="rId8" action="ppaction://hlinksldjump"/>
            </p:cNvPr>
            <p:cNvSpPr/>
            <p:nvPr/>
          </p:nvSpPr>
          <p:spPr>
            <a:xfrm>
              <a:off x="4038480" y="3429000"/>
              <a:ext cx="1143000" cy="609480"/>
            </a:xfrm>
            <a:custGeom>
              <a:avLst/>
              <a:gdLst>
                <a:gd name="textAreaLeft" fmla="*/ 39240 w 1143000"/>
                <a:gd name="textAreaRight" fmla="*/ 1103760 w 11430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40497" h="21600">
                  <a:moveTo>
                    <a:pt x="0" y="0"/>
                  </a:moveTo>
                  <a:lnTo>
                    <a:pt x="40497" y="0"/>
                  </a:lnTo>
                  <a:lnTo>
                    <a:pt x="40497" y="21600"/>
                  </a:lnTo>
                  <a:lnTo>
                    <a:pt x="0" y="21600"/>
                  </a:lnTo>
                  <a:close/>
                </a:path>
                <a:path fill="lightenLess" w="40497" h="21600">
                  <a:moveTo>
                    <a:pt x="0" y="0"/>
                  </a:moveTo>
                  <a:lnTo>
                    <a:pt x="40497" y="0"/>
                  </a:lnTo>
                  <a:lnTo>
                    <a:pt x="39097" y="1400"/>
                  </a:lnTo>
                  <a:lnTo>
                    <a:pt x="1400" y="1400"/>
                  </a:lnTo>
                  <a:close/>
                </a:path>
                <a:path fill="darken" w="40497" h="21600">
                  <a:moveTo>
                    <a:pt x="40497" y="0"/>
                  </a:moveTo>
                  <a:lnTo>
                    <a:pt x="40497" y="21600"/>
                  </a:lnTo>
                  <a:lnTo>
                    <a:pt x="39097" y="20200"/>
                  </a:lnTo>
                  <a:lnTo>
                    <a:pt x="39097" y="1400"/>
                  </a:lnTo>
                  <a:close/>
                </a:path>
                <a:path fill="darkenLess" w="40497" h="21600">
                  <a:moveTo>
                    <a:pt x="404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097" y="20200"/>
                  </a:lnTo>
                  <a:close/>
                </a:path>
                <a:path fill="lighten" w="404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rId10" action="ppaction://hlinksldjump"/>
          </p:cNvPr>
          <p:cNvSpPr/>
          <p:nvPr/>
        </p:nvSpPr>
        <p:spPr>
          <a:xfrm>
            <a:off x="3809880" y="3352680"/>
            <a:ext cx="1524240" cy="762120"/>
          </a:xfrm>
          <a:custGeom>
            <a:avLst/>
            <a:gdLst>
              <a:gd name="textAreaLeft" fmla="*/ 49320 w 1524240"/>
              <a:gd name="textAreaRight" fmla="*/ 1474920 w 1524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90" h="21600">
                <a:moveTo>
                  <a:pt x="0" y="0"/>
                </a:moveTo>
                <a:lnTo>
                  <a:pt x="43190" y="0"/>
                </a:lnTo>
                <a:lnTo>
                  <a:pt x="43190" y="21600"/>
                </a:lnTo>
                <a:lnTo>
                  <a:pt x="0" y="21600"/>
                </a:lnTo>
                <a:close/>
              </a:path>
              <a:path fill="lightenLess" w="43190" h="21600">
                <a:moveTo>
                  <a:pt x="0" y="0"/>
                </a:moveTo>
                <a:lnTo>
                  <a:pt x="43190" y="0"/>
                </a:lnTo>
                <a:lnTo>
                  <a:pt x="41790" y="1400"/>
                </a:lnTo>
                <a:lnTo>
                  <a:pt x="1400" y="1400"/>
                </a:lnTo>
                <a:close/>
              </a:path>
              <a:path fill="darken" w="43190" h="21600">
                <a:moveTo>
                  <a:pt x="43190" y="0"/>
                </a:moveTo>
                <a:lnTo>
                  <a:pt x="43190" y="21600"/>
                </a:lnTo>
                <a:lnTo>
                  <a:pt x="41790" y="20200"/>
                </a:lnTo>
                <a:lnTo>
                  <a:pt x="41790" y="1400"/>
                </a:lnTo>
                <a:close/>
              </a:path>
              <a:path fill="darkenLess" w="43190" h="21600">
                <a:moveTo>
                  <a:pt x="43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90" y="20200"/>
                </a:lnTo>
                <a:close/>
              </a:path>
              <a:path fill="lighten" w="43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048120" y="69516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38680" y="155268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4038480" y="2133720"/>
            <a:ext cx="1905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8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6"/>
          <a:stretch/>
        </p:blipFill>
        <p:spPr>
          <a:xfrm>
            <a:off x="3886200" y="1981080"/>
            <a:ext cx="19432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6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14400" y="3276720"/>
            <a:ext cx="2514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uarant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24480" y="3276720"/>
            <a:ext cx="2514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uarant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0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6"/>
          <a:stretch/>
        </p:blipFill>
        <p:spPr>
          <a:xfrm>
            <a:off x="4038480" y="2057400"/>
            <a:ext cx="1828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4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3962520" y="1981080"/>
            <a:ext cx="19429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2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4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6"/>
          <a:stretch/>
        </p:blipFill>
        <p:spPr>
          <a:xfrm>
            <a:off x="3886200" y="1981080"/>
            <a:ext cx="1981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0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6"/>
          <a:stretch/>
        </p:blipFill>
        <p:spPr>
          <a:xfrm>
            <a:off x="3886200" y="1981080"/>
            <a:ext cx="1979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8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6"/>
          <a:stretch/>
        </p:blipFill>
        <p:spPr>
          <a:xfrm>
            <a:off x="3886200" y="2057400"/>
            <a:ext cx="194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14400" y="3276720"/>
            <a:ext cx="2514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uarant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2,00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24480" y="3276720"/>
            <a:ext cx="251460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guarant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2,000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3962520" y="1981080"/>
            <a:ext cx="1981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3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4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6"/>
          <a:stretch/>
        </p:blipFill>
        <p:spPr>
          <a:xfrm>
            <a:off x="3962520" y="1981080"/>
            <a:ext cx="1981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2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6"/>
          <a:stretch/>
        </p:blipFill>
        <p:spPr>
          <a:xfrm>
            <a:off x="3886200" y="1981080"/>
            <a:ext cx="194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761760"/>
            <a:ext cx="426708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2 for $2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286000"/>
            <a:ext cx="815364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oes Joe wipe his feet when he comes to vis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45720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We don’t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486400"/>
            <a:ext cx="403848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122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3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5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7" action="ppaction://hlinksldjump"/>
          </p:cNvPr>
          <p:cNvSpPr/>
          <p:nvPr/>
        </p:nvSpPr>
        <p:spPr>
          <a:xfrm>
            <a:off x="6553080" y="34290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grpSp>
          <p:nvGrpSpPr>
            <p:cNvPr id="129" name=""/>
            <p:cNvGrpSpPr/>
            <p:nvPr/>
          </p:nvGrpSpPr>
          <p:grpSpPr>
            <a:xfrm>
              <a:off x="3733920" y="3276720"/>
              <a:ext cx="1676160" cy="914400"/>
              <a:chOff x="3733920" y="3276720"/>
              <a:chExt cx="1676160" cy="914400"/>
            </a:xfrm>
          </p:grpSpPr>
          <p:sp>
            <p:nvSpPr>
              <p:cNvPr id="130" name=""/>
              <p:cNvSpPr/>
              <p:nvPr/>
            </p:nvSpPr>
            <p:spPr>
              <a:xfrm>
                <a:off x="3733920" y="3276720"/>
                <a:ext cx="1676160" cy="914400"/>
              </a:xfrm>
              <a:prstGeom prst="ellips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14800" y="3352680"/>
                <a:ext cx="939960" cy="673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>
              <a:hlinkClick r:id="rId9" action="ppaction://hlinksldjump"/>
            </p:cNvPr>
            <p:cNvSpPr/>
            <p:nvPr/>
          </p:nvSpPr>
          <p:spPr>
            <a:xfrm>
              <a:off x="4038480" y="3429000"/>
              <a:ext cx="1143000" cy="609480"/>
            </a:xfrm>
            <a:custGeom>
              <a:avLst/>
              <a:gdLst>
                <a:gd name="textAreaLeft" fmla="*/ 39240 w 1143000"/>
                <a:gd name="textAreaRight" fmla="*/ 1103760 w 1143000"/>
                <a:gd name="textAreaTop" fmla="*/ 39240 h 609480"/>
                <a:gd name="textAreaBottom" fmla="*/ 570240 h 609480"/>
              </a:gdLst>
              <a:ahLst/>
              <a:rect l="textAreaLeft" t="textAreaTop" r="textAreaRight" b="textAreaBottom"/>
              <a:pathLst>
                <a:path w="40497" h="21600">
                  <a:moveTo>
                    <a:pt x="0" y="0"/>
                  </a:moveTo>
                  <a:lnTo>
                    <a:pt x="40497" y="0"/>
                  </a:lnTo>
                  <a:lnTo>
                    <a:pt x="40497" y="21600"/>
                  </a:lnTo>
                  <a:lnTo>
                    <a:pt x="0" y="21600"/>
                  </a:lnTo>
                  <a:close/>
                </a:path>
                <a:path fill="lightenLess" w="40497" h="21600">
                  <a:moveTo>
                    <a:pt x="0" y="0"/>
                  </a:moveTo>
                  <a:lnTo>
                    <a:pt x="40497" y="0"/>
                  </a:lnTo>
                  <a:lnTo>
                    <a:pt x="39097" y="1400"/>
                  </a:lnTo>
                  <a:lnTo>
                    <a:pt x="1400" y="1400"/>
                  </a:lnTo>
                  <a:close/>
                </a:path>
                <a:path fill="darken" w="40497" h="21600">
                  <a:moveTo>
                    <a:pt x="40497" y="0"/>
                  </a:moveTo>
                  <a:lnTo>
                    <a:pt x="40497" y="21600"/>
                  </a:lnTo>
                  <a:lnTo>
                    <a:pt x="39097" y="20200"/>
                  </a:lnTo>
                  <a:lnTo>
                    <a:pt x="39097" y="1400"/>
                  </a:lnTo>
                  <a:close/>
                </a:path>
                <a:path fill="darkenLess" w="40497" h="21600">
                  <a:moveTo>
                    <a:pt x="4049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9097" y="20200"/>
                  </a:lnTo>
                  <a:close/>
                </a:path>
                <a:path fill="lighten" w="4049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57200" y="4724280"/>
            <a:ext cx="8077320" cy="1219320"/>
            <a:chOff x="457200" y="4724280"/>
            <a:chExt cx="8077320" cy="1219320"/>
          </a:xfrm>
        </p:grpSpPr>
        <p:sp>
          <p:nvSpPr>
            <p:cNvPr id="134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>
            <a:hlinkClick r:id="rId10" action="ppaction://hlinksldjump"/>
          </p:cNvPr>
          <p:cNvSpPr/>
          <p:nvPr/>
        </p:nvSpPr>
        <p:spPr>
          <a:xfrm>
            <a:off x="3884760" y="3271680"/>
            <a:ext cx="1444320" cy="841680"/>
          </a:xfrm>
          <a:custGeom>
            <a:avLst/>
            <a:gdLst>
              <a:gd name="textAreaLeft" fmla="*/ 54360 w 1444320"/>
              <a:gd name="textAreaRight" fmla="*/ 1389960 w 1444320"/>
              <a:gd name="textAreaTop" fmla="*/ 54360 h 841680"/>
              <a:gd name="textAreaBottom" fmla="*/ 787320 h 841680"/>
            </a:gdLst>
            <a:ahLst/>
            <a:rect l="textAreaLeft" t="textAreaTop" r="textAreaRight" b="textAreaBottom"/>
            <a:pathLst>
              <a:path w="37059" h="21600">
                <a:moveTo>
                  <a:pt x="0" y="0"/>
                </a:moveTo>
                <a:lnTo>
                  <a:pt x="37059" y="0"/>
                </a:lnTo>
                <a:lnTo>
                  <a:pt x="37059" y="21600"/>
                </a:lnTo>
                <a:lnTo>
                  <a:pt x="0" y="21600"/>
                </a:lnTo>
                <a:close/>
              </a:path>
              <a:path fill="lightenLess" w="37059" h="21600">
                <a:moveTo>
                  <a:pt x="0" y="0"/>
                </a:moveTo>
                <a:lnTo>
                  <a:pt x="37059" y="0"/>
                </a:lnTo>
                <a:lnTo>
                  <a:pt x="35659" y="1400"/>
                </a:lnTo>
                <a:lnTo>
                  <a:pt x="1400" y="1400"/>
                </a:lnTo>
                <a:close/>
              </a:path>
              <a:path fill="darken" w="37059" h="21600">
                <a:moveTo>
                  <a:pt x="37059" y="0"/>
                </a:moveTo>
                <a:lnTo>
                  <a:pt x="37059" y="21600"/>
                </a:lnTo>
                <a:lnTo>
                  <a:pt x="35659" y="20200"/>
                </a:lnTo>
                <a:lnTo>
                  <a:pt x="35659" y="1400"/>
                </a:lnTo>
                <a:close/>
              </a:path>
              <a:path fill="darkenLess" w="37059" h="21600">
                <a:moveTo>
                  <a:pt x="37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9" y="20200"/>
                </a:lnTo>
                <a:close/>
              </a:path>
              <a:path fill="lighten" w="37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0200" y="5486400"/>
            <a:ext cx="411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313"/>
                </a:solidFill>
                <a:latin typeface="Times New Roman"/>
              </a:rPr>
              <a:t>D. Excessively, in Pip’s opi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115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6"/>
          <a:stretch/>
        </p:blipFill>
        <p:spPr>
          <a:xfrm>
            <a:off x="3886200" y="1981080"/>
            <a:ext cx="194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"/>
          <p:cNvSpPr/>
          <p:nvPr/>
        </p:nvSpPr>
        <p:spPr>
          <a:xfrm>
            <a:off x="1674000" y="6019920"/>
            <a:ext cx="33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like to try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520" y="6019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>
            <a:hlinkClick r:id="rId5" action="ppaction://hlinksldjump"/>
          </p:cNvPr>
          <p:cNvSpPr/>
          <p:nvPr/>
        </p:nvSpPr>
        <p:spPr>
          <a:xfrm>
            <a:off x="5105520" y="6019920"/>
            <a:ext cx="121896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6294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3352680"/>
            <a:ext cx="12193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6"/>
          <a:stretch/>
        </p:blipFill>
        <p:spPr>
          <a:xfrm>
            <a:off x="3962520" y="1981080"/>
            <a:ext cx="1904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819520" y="457200"/>
            <a:ext cx="39052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gratulations!</a:t>
            </a:r>
            <a:endParaRPr b="0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733920" y="1371600"/>
            <a:ext cx="2257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You have won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3276720"/>
            <a:ext cx="221004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>
            <a:off x="3886200" y="2133720"/>
            <a:ext cx="1981080" cy="39621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6324480" y="3276720"/>
            <a:ext cx="221004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,000,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6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8" dur="1" fill="hold"/>
                                        <p:tgtEl>
                                          <p:spTgt spid="5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hone a Friend!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523880" y="266688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student in class would you like to ask for hel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" action="ppaction://hlinkshowjump?jump=previousslide"/>
          </p:cNvPr>
          <p:cNvSpPr/>
          <p:nvPr/>
        </p:nvSpPr>
        <p:spPr>
          <a:xfrm>
            <a:off x="7467480" y="5867280"/>
            <a:ext cx="1143000" cy="609840"/>
          </a:xfrm>
          <a:custGeom>
            <a:avLst/>
            <a:gdLst>
              <a:gd name="textAreaLeft" fmla="*/ 39240 w 1143000"/>
              <a:gd name="textAreaRight" fmla="*/ 1103760 w 11430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0473" h="21600">
                <a:moveTo>
                  <a:pt x="0" y="0"/>
                </a:moveTo>
                <a:lnTo>
                  <a:pt x="40473" y="0"/>
                </a:lnTo>
                <a:lnTo>
                  <a:pt x="40473" y="21600"/>
                </a:lnTo>
                <a:lnTo>
                  <a:pt x="0" y="21600"/>
                </a:lnTo>
                <a:close/>
              </a:path>
              <a:path fill="lightenLess" w="40473" h="21600">
                <a:moveTo>
                  <a:pt x="0" y="0"/>
                </a:moveTo>
                <a:lnTo>
                  <a:pt x="40473" y="0"/>
                </a:lnTo>
                <a:lnTo>
                  <a:pt x="39073" y="1400"/>
                </a:lnTo>
                <a:lnTo>
                  <a:pt x="1400" y="1400"/>
                </a:lnTo>
                <a:close/>
              </a:path>
              <a:path fill="darken" w="40473" h="21600">
                <a:moveTo>
                  <a:pt x="40473" y="0"/>
                </a:moveTo>
                <a:lnTo>
                  <a:pt x="40473" y="21600"/>
                </a:lnTo>
                <a:lnTo>
                  <a:pt x="39073" y="20200"/>
                </a:lnTo>
                <a:lnTo>
                  <a:pt x="39073" y="1400"/>
                </a:lnTo>
                <a:close/>
              </a:path>
              <a:path fill="darkenLess" w="40473" h="21600">
                <a:moveTo>
                  <a:pt x="404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73" y="20200"/>
                </a:lnTo>
                <a:close/>
              </a:path>
              <a:path fill="lighten" w="404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73" h="21600">
                <a:moveTo>
                  <a:pt x="13230" y="7493"/>
                </a:moveTo>
                <a:lnTo>
                  <a:pt x="16738" y="7493"/>
                </a:lnTo>
                <a:lnTo>
                  <a:pt x="16738" y="12828"/>
                </a:lnTo>
                <a:cubicBezTo>
                  <a:pt x="16738" y="13751"/>
                  <a:pt x="17538" y="14482"/>
                  <a:pt x="18574" y="14482"/>
                </a:cubicBezTo>
                <a:lnTo>
                  <a:pt x="20236" y="14482"/>
                </a:lnTo>
                <a:cubicBezTo>
                  <a:pt x="21272" y="14482"/>
                  <a:pt x="22073" y="13751"/>
                  <a:pt x="22073" y="12828"/>
                </a:cubicBezTo>
                <a:lnTo>
                  <a:pt x="22073" y="7493"/>
                </a:lnTo>
                <a:lnTo>
                  <a:pt x="20236" y="7493"/>
                </a:lnTo>
                <a:lnTo>
                  <a:pt x="23744" y="3985"/>
                </a:lnTo>
                <a:lnTo>
                  <a:pt x="27417" y="7493"/>
                </a:lnTo>
                <a:lnTo>
                  <a:pt x="25581" y="7493"/>
                </a:lnTo>
                <a:lnTo>
                  <a:pt x="25581" y="12828"/>
                </a:lnTo>
                <a:cubicBezTo>
                  <a:pt x="25581" y="15596"/>
                  <a:pt x="23004" y="18155"/>
                  <a:pt x="20236" y="18155"/>
                </a:cubicBezTo>
                <a:lnTo>
                  <a:pt x="18574" y="18155"/>
                </a:lnTo>
                <a:cubicBezTo>
                  <a:pt x="15806" y="18155"/>
                  <a:pt x="13230" y="15596"/>
                  <a:pt x="13230" y="12828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’m Sorry!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829880" y="2514600"/>
            <a:ext cx="536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at is not the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orrect answer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19520" y="823680"/>
            <a:ext cx="4038480" cy="623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Arial"/>
              </a:rPr>
              <a:t>Question 3 for $300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0"/>
            <a:ext cx="815328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at does Joe give to Pip pertaining to Wops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A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A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A playb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145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6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8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150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457200" y="4724280"/>
            <a:ext cx="3962520" cy="1219320"/>
            <a:chOff x="457200" y="4724280"/>
            <a:chExt cx="3962520" cy="1219320"/>
          </a:xfrm>
        </p:grpSpPr>
        <p:sp>
          <p:nvSpPr>
            <p:cNvPr id="154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>
            <a:hlinkClick r:id="rId8" action="ppaction://hlinksldjump"/>
          </p:cNvPr>
          <p:cNvSpPr/>
          <p:nvPr/>
        </p:nvSpPr>
        <p:spPr>
          <a:xfrm>
            <a:off x="3886200" y="3352680"/>
            <a:ext cx="1523880" cy="762120"/>
          </a:xfrm>
          <a:custGeom>
            <a:avLst/>
            <a:gdLst>
              <a:gd name="textAreaLeft" fmla="*/ 49320 w 1523880"/>
              <a:gd name="textAreaRight" fmla="*/ 1474560 w 15238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9" action="ppaction://hlinksldjump"/>
          </p:cNvPr>
          <p:cNvSpPr/>
          <p:nvPr/>
        </p:nvSpPr>
        <p:spPr>
          <a:xfrm>
            <a:off x="6629400" y="342900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115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26708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4 for $5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286000"/>
            <a:ext cx="807732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at does Herbert offer to Jo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Mo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Tea or Coff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His so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165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6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8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170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4648320" y="4724280"/>
            <a:ext cx="3962160" cy="1219320"/>
            <a:chOff x="4648320" y="4724280"/>
            <a:chExt cx="3962160" cy="1219320"/>
          </a:xfrm>
        </p:grpSpPr>
        <p:sp>
          <p:nvSpPr>
            <p:cNvPr id="174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115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6880" y="761760"/>
            <a:ext cx="46483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5 for $1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828800"/>
            <a:ext cx="8077320" cy="10666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o tells Joe that Miss Havisham would like to speak with hi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Bid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Miss Havis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Jag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Pumblech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18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18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192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" y="472428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>
            <a:hlinkClick r:id="rId8" action="ppaction://hlinksldjump"/>
          </p:cNvPr>
          <p:cNvSpPr/>
          <p:nvPr/>
        </p:nvSpPr>
        <p:spPr>
          <a:xfrm>
            <a:off x="3962520" y="3429000"/>
            <a:ext cx="1295280" cy="685800"/>
          </a:xfrm>
          <a:custGeom>
            <a:avLst/>
            <a:gdLst>
              <a:gd name="textAreaLeft" fmla="*/ 44280 w 1295280"/>
              <a:gd name="textAreaRight" fmla="*/ 1251000 w 12952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86" h="21600">
                <a:moveTo>
                  <a:pt x="0" y="0"/>
                </a:moveTo>
                <a:lnTo>
                  <a:pt x="40786" y="0"/>
                </a:lnTo>
                <a:lnTo>
                  <a:pt x="40786" y="21600"/>
                </a:lnTo>
                <a:lnTo>
                  <a:pt x="0" y="21600"/>
                </a:lnTo>
                <a:close/>
              </a:path>
              <a:path fill="lightenLess" w="40786" h="21600">
                <a:moveTo>
                  <a:pt x="0" y="0"/>
                </a:moveTo>
                <a:lnTo>
                  <a:pt x="40786" y="0"/>
                </a:lnTo>
                <a:lnTo>
                  <a:pt x="39386" y="1400"/>
                </a:lnTo>
                <a:lnTo>
                  <a:pt x="1400" y="1400"/>
                </a:lnTo>
                <a:close/>
              </a:path>
              <a:path fill="darken" w="40786" h="21600">
                <a:moveTo>
                  <a:pt x="40786" y="0"/>
                </a:moveTo>
                <a:lnTo>
                  <a:pt x="40786" y="21600"/>
                </a:lnTo>
                <a:lnTo>
                  <a:pt x="39386" y="20200"/>
                </a:lnTo>
                <a:lnTo>
                  <a:pt x="39386" y="1400"/>
                </a:lnTo>
                <a:close/>
              </a:path>
              <a:path fill="darkenLess" w="40786" h="21600">
                <a:moveTo>
                  <a:pt x="40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6" y="20200"/>
                </a:lnTo>
                <a:close/>
              </a:path>
              <a:path fill="lighten" w="40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9" action="ppaction://hlinksldjump"/>
          </p:cNvPr>
          <p:cNvSpPr/>
          <p:nvPr/>
        </p:nvSpPr>
        <p:spPr>
          <a:xfrm>
            <a:off x="655308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11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666880" y="761760"/>
            <a:ext cx="46483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6 for $2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057400"/>
            <a:ext cx="8001000" cy="609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ere does Pip first set up to go t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His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Blue B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He doesn’t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Miss Havisham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20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0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20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457200" y="4724280"/>
            <a:ext cx="8153280" cy="1219320"/>
            <a:chOff x="457200" y="4724280"/>
            <a:chExt cx="8153280" cy="1219320"/>
          </a:xfrm>
        </p:grpSpPr>
        <p:sp>
          <p:nvSpPr>
            <p:cNvPr id="21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>
            <a:hlinkClick r:id="rId8" action="ppaction://hlinksldjump"/>
          </p:cNvPr>
          <p:cNvSpPr/>
          <p:nvPr/>
        </p:nvSpPr>
        <p:spPr>
          <a:xfrm>
            <a:off x="3962520" y="33526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9" action="ppaction://hlinksldjump"/>
          </p:cNvPr>
          <p:cNvSpPr/>
          <p:nvPr/>
        </p:nvSpPr>
        <p:spPr>
          <a:xfrm>
            <a:off x="655308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115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90560" y="761760"/>
            <a:ext cx="464796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7 for $4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209680"/>
            <a:ext cx="8001000" cy="609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ere does he decide to go instea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Miss Havisham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4100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Blue Bo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rId2" action="ppaction://hlinksldjump"/>
          </p:cNvPr>
          <p:cNvSpPr/>
          <p:nvPr/>
        </p:nvSpPr>
        <p:spPr>
          <a:xfrm>
            <a:off x="4648320" y="54100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He doesn’t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His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22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22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4648320" y="4724280"/>
            <a:ext cx="3962160" cy="1143000"/>
            <a:chOff x="4648320" y="4724280"/>
            <a:chExt cx="3962160" cy="1143000"/>
          </a:xfrm>
        </p:grpSpPr>
        <p:sp>
          <p:nvSpPr>
            <p:cNvPr id="232" name=""/>
            <p:cNvSpPr/>
            <p:nvPr/>
          </p:nvSpPr>
          <p:spPr>
            <a:xfrm>
              <a:off x="4648320" y="54100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48320" y="472428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>
            <a:hlinkClick r:id="rId8" action="ppaction://hlinksldjump"/>
          </p:cNvPr>
          <p:cNvSpPr/>
          <p:nvPr/>
        </p:nvSpPr>
        <p:spPr>
          <a:xfrm>
            <a:off x="3962520" y="33526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>
            <a:hlinkClick r:id="rId9" action="ppaction://hlinksldjump"/>
          </p:cNvPr>
          <p:cNvSpPr/>
          <p:nvPr/>
        </p:nvSpPr>
        <p:spPr>
          <a:xfrm>
            <a:off x="655308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115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666880" y="762120"/>
            <a:ext cx="4648320" cy="682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313"/>
                </a:solidFill>
                <a:latin typeface="Arial"/>
              </a:rPr>
              <a:t>Question 8 for $8,000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1981080"/>
            <a:ext cx="8001000" cy="914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Who is the convict (we have met before) in the coa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472428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A. Mysterious 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1" action="ppaction://hlinksldjump"/>
          </p:cNvPr>
          <p:cNvSpPr/>
          <p:nvPr/>
        </p:nvSpPr>
        <p:spPr>
          <a:xfrm>
            <a:off x="4648320" y="548640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D. Wem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457200" y="5486400"/>
            <a:ext cx="396252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C. There wasn’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3" action="ppaction://hlinksldjump"/>
          </p:cNvPr>
          <p:cNvSpPr/>
          <p:nvPr/>
        </p:nvSpPr>
        <p:spPr>
          <a:xfrm>
            <a:off x="4648320" y="4724280"/>
            <a:ext cx="396216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313"/>
                </a:solidFill>
                <a:latin typeface="Times New Roman"/>
              </a:rPr>
              <a:t>B. “Pip’s Convic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400800" y="3276720"/>
            <a:ext cx="1676520" cy="914400"/>
            <a:chOff x="6400800" y="3276720"/>
            <a:chExt cx="1676520" cy="914400"/>
          </a:xfrm>
        </p:grpSpPr>
        <p:sp>
          <p:nvSpPr>
            <p:cNvPr id="243" name=""/>
            <p:cNvSpPr/>
            <p:nvPr/>
          </p:nvSpPr>
          <p:spPr>
            <a:xfrm>
              <a:off x="6400800" y="3276720"/>
              <a:ext cx="167652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4" name=""/>
            <p:cNvGraphicFramePr/>
            <p:nvPr/>
          </p:nvGraphicFramePr>
          <p:xfrm>
            <a:off x="6553080" y="3429000"/>
            <a:ext cx="1292400" cy="622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4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3429000"/>
                      <a:ext cx="129240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6" name=""/>
          <p:cNvSpPr/>
          <p:nvPr/>
        </p:nvSpPr>
        <p:spPr>
          <a:xfrm>
            <a:off x="1066680" y="3276720"/>
            <a:ext cx="1676520" cy="914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733920" y="3276720"/>
            <a:ext cx="1676160" cy="914400"/>
            <a:chOff x="3733920" y="3276720"/>
            <a:chExt cx="1676160" cy="914400"/>
          </a:xfrm>
        </p:grpSpPr>
        <p:sp>
          <p:nvSpPr>
            <p:cNvPr id="248" name=""/>
            <p:cNvSpPr/>
            <p:nvPr/>
          </p:nvSpPr>
          <p:spPr>
            <a:xfrm>
              <a:off x="3733920" y="3276720"/>
              <a:ext cx="1676160" cy="9144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6"/>
            <a:stretch/>
          </p:blipFill>
          <p:spPr>
            <a:xfrm>
              <a:off x="4114800" y="3352680"/>
              <a:ext cx="939960" cy="673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0" name="" descr=""/>
          <p:cNvPicPr/>
          <p:nvPr/>
        </p:nvPicPr>
        <p:blipFill>
          <a:blip r:embed="rId7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457200" y="5486400"/>
            <a:ext cx="8153280" cy="457200"/>
            <a:chOff x="457200" y="5486400"/>
            <a:chExt cx="8153280" cy="457200"/>
          </a:xfrm>
        </p:grpSpPr>
        <p:sp>
          <p:nvSpPr>
            <p:cNvPr id="252" name=""/>
            <p:cNvSpPr/>
            <p:nvPr/>
          </p:nvSpPr>
          <p:spPr>
            <a:xfrm>
              <a:off x="457200" y="5486400"/>
              <a:ext cx="396252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8320" y="5486400"/>
              <a:ext cx="3962160" cy="457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>
            <a:hlinkClick r:id="rId8" action="ppaction://hlinksldjump"/>
          </p:cNvPr>
          <p:cNvSpPr/>
          <p:nvPr/>
        </p:nvSpPr>
        <p:spPr>
          <a:xfrm>
            <a:off x="3886200" y="33526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9" action="ppaction://hlinksldjump"/>
          </p:cNvPr>
          <p:cNvSpPr/>
          <p:nvPr/>
        </p:nvSpPr>
        <p:spPr>
          <a:xfrm>
            <a:off x="6553080" y="3429000"/>
            <a:ext cx="1447920" cy="685800"/>
          </a:xfrm>
          <a:custGeom>
            <a:avLst/>
            <a:gdLst>
              <a:gd name="textAreaLeft" fmla="*/ 44280 w 1447920"/>
              <a:gd name="textAreaRight" fmla="*/ 1403640 w 1447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5591" h="21600">
                <a:moveTo>
                  <a:pt x="0" y="0"/>
                </a:moveTo>
                <a:lnTo>
                  <a:pt x="45591" y="0"/>
                </a:lnTo>
                <a:lnTo>
                  <a:pt x="45591" y="21600"/>
                </a:lnTo>
                <a:lnTo>
                  <a:pt x="0" y="21600"/>
                </a:lnTo>
                <a:close/>
              </a:path>
              <a:path fill="lightenLess" w="45591" h="21600">
                <a:moveTo>
                  <a:pt x="0" y="0"/>
                </a:moveTo>
                <a:lnTo>
                  <a:pt x="45591" y="0"/>
                </a:lnTo>
                <a:lnTo>
                  <a:pt x="44191" y="1400"/>
                </a:lnTo>
                <a:lnTo>
                  <a:pt x="1400" y="1400"/>
                </a:lnTo>
                <a:close/>
              </a:path>
              <a:path fill="darken" w="45591" h="21600">
                <a:moveTo>
                  <a:pt x="45591" y="0"/>
                </a:moveTo>
                <a:lnTo>
                  <a:pt x="45591" y="21600"/>
                </a:lnTo>
                <a:lnTo>
                  <a:pt x="44191" y="20200"/>
                </a:lnTo>
                <a:lnTo>
                  <a:pt x="44191" y="1400"/>
                </a:lnTo>
                <a:close/>
              </a:path>
              <a:path fill="darkenLess" w="45591" h="21600">
                <a:moveTo>
                  <a:pt x="45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91" y="20200"/>
                </a:lnTo>
                <a:close/>
              </a:path>
              <a:path fill="lighten" w="45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115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TSD</cp:lastModifiedBy>
  <dcterms:modified xsi:type="dcterms:W3CDTF">2009-03-05T17:37:12Z</dcterms:modified>
  <cp:revision>54</cp:revision>
  <dc:subject/>
  <dc:title>PowerPoint Presentation</dc:title>
</cp:coreProperties>
</file>